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235-AA12-4997-AC35-949C49FB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DFE-E5B0-481D-9530-0EE61F5B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DAD-E526-4F75-8B14-250E5D2E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451-12A9-4397-AEAD-697508CC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48B-DA8B-4DF0-B9DC-10C0C6C3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BC7-C13B-42BF-8166-356A96F0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280-007B-4406-AAC6-1EC34883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03D-B9C7-4571-82DF-0BBB11D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3A4-4E67-494B-B25A-4598305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E16-C785-45A0-8A46-8163C09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9EE-9276-4DEE-8C86-E4CFF66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AD9-8759-43E5-905F-EFA24BA0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B94F-EA25-47F7-9966-FBA0BBF3D8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overtime.ru/i/SHV-01.jpg" TargetMode="External"/><Relationship Id="rId2" Type="http://schemas.openxmlformats.org/officeDocument/2006/relationships/hyperlink" Target="http://inmenso.ru/components/com_virtuemart/shop_image/product/180358.jpg" TargetMode="External"/><Relationship Id="rId3" Type="http://schemas.openxmlformats.org/officeDocument/2006/relationships/hyperlink" Target="http://www.profinance.kz/uploads/posts/2009-11/1258442686_os18040.jpg" TargetMode="External"/><Relationship Id="rId4" Type="http://schemas.openxmlformats.org/officeDocument/2006/relationships/hyperlink" Target="http://www.pitomec.ru/upload/userfiles/&#1052;.jpg" TargetMode="External"/><Relationship Id="rId5" Type="http://schemas.openxmlformats.org/officeDocument/2006/relationships/hyperlink" Target="http://static2.aif.ru/public/article/724/4b4371d16ef5f2824f68490151044f29_medium.jpg" TargetMode="External"/><Relationship Id="rId6" Type="http://schemas.openxmlformats.org/officeDocument/2006/relationships/hyperlink" Target="http://i.allday.ru/uploads/posts/1191268944_c4104.jpg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87280" y="119700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усский язы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124000" y="3429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276720" y="501336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0" y="6597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FokinaLida.75@mail.r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395280" y="924840"/>
            <a:ext cx="8172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Calibri"/>
              </a:rPr>
              <a:t>Стр. 6, упр. 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50920" y="394920"/>
            <a:ext cx="8497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емые источн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Бирюков А. А., Синицина Е. И. Справочник школьника. М.: Филологическое общество «Слово»: Компания «Ключ – С»: АСТ, 1996 г., 64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винджилия О. В. Словарные слова: рабочая тетрадь: 2 класс: к учебнику Л. М. Зелениной, Т. Е. Хохловой «Русский язык. 2 класс» М. : Издательство «Экзамен», 2010 г., 9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Жиренко О. Е., Обухова Л. А. Поурочные разработки по русскому языку: 2 класс. М.: ВАКО, 2009 г., 35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Зеленина Л. М., Хохлова Т. Е. Русский язык. Учебник для 2 класса начальной школы в двух частях. Часть 2. М.: Просвещение, 2007 г., 1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79280" y="189000"/>
            <a:ext cx="864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ал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rovertime.ru/i/SHV-0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яц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nmenso.ru/components/com_virtuemart/shop_image/product/18035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ва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profinance.kz/uploads/posts/2009-11/1258442686_os1804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ковь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itomec.ru/upload/userfiles/%D0%9C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урец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static2.aif.ru/public/article/724/4b4371d16ef5f2824f68490151044f29_medium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.allday.ru/uploads/posts/1191268944_c4104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и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raexpert.ru/researches/publications/hands_deficit/vfscsm3u.jp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од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bulldozer.by/images/stories/04093927484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ёз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www.lullymoreheritagepark.com/images/Silver_Birch_Tre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ёз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demiart.ru/forum/uploads6/post-109071-128572587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476360" y="4221000"/>
            <a:ext cx="4689360" cy="20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итим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Компас\Pictures\Изображение 004.jpg"/>
          <p:cNvPicPr/>
          <p:nvPr/>
        </p:nvPicPr>
        <p:blipFill>
          <a:blip r:embed="rId1"/>
          <a:stretch/>
        </p:blipFill>
        <p:spPr>
          <a:xfrm>
            <a:off x="5419800" y="669960"/>
            <a:ext cx="24922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Компас\Pictures\SHV-01.jpg"/>
          <p:cNvPicPr/>
          <p:nvPr/>
        </p:nvPicPr>
        <p:blipFill>
          <a:blip r:embed="rId1"/>
          <a:stretch/>
        </p:blipFill>
        <p:spPr>
          <a:xfrm>
            <a:off x="539640" y="549360"/>
            <a:ext cx="2268720" cy="151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Компас\Pictures\загруженное.jpg"/>
          <p:cNvPicPr/>
          <p:nvPr/>
        </p:nvPicPr>
        <p:blipFill>
          <a:blip r:embed="rId2"/>
          <a:stretch/>
        </p:blipFill>
        <p:spPr>
          <a:xfrm>
            <a:off x="6875640" y="2728800"/>
            <a:ext cx="1820520" cy="248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Компас\Pictures\4b4371d16ef5f2824f68490151044f29_medium.jpg"/>
          <p:cNvPicPr/>
          <p:nvPr/>
        </p:nvPicPr>
        <p:blipFill>
          <a:blip r:embed="rId3"/>
          <a:stretch/>
        </p:blipFill>
        <p:spPr>
          <a:xfrm>
            <a:off x="3419640" y="549360"/>
            <a:ext cx="234144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Компас\Pictures\180358.jpg"/>
          <p:cNvPicPr/>
          <p:nvPr/>
        </p:nvPicPr>
        <p:blipFill>
          <a:blip r:embed="rId4"/>
          <a:stretch/>
        </p:blipFill>
        <p:spPr>
          <a:xfrm>
            <a:off x="250920" y="2276640"/>
            <a:ext cx="2152440" cy="249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Компас\Pictures\1191268944_c4104.jpg"/>
          <p:cNvPicPr/>
          <p:nvPr/>
        </p:nvPicPr>
        <p:blipFill>
          <a:blip r:embed="rId5"/>
          <a:stretch/>
        </p:blipFill>
        <p:spPr>
          <a:xfrm>
            <a:off x="5508720" y="4221000"/>
            <a:ext cx="1727280" cy="230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ас\Pictures\1258442686_os18040.jpg"/>
          <p:cNvPicPr/>
          <p:nvPr/>
        </p:nvPicPr>
        <p:blipFill>
          <a:blip r:embed="rId6"/>
          <a:stretch/>
        </p:blipFill>
        <p:spPr>
          <a:xfrm>
            <a:off x="6227640" y="765000"/>
            <a:ext cx="2094120" cy="163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ас\Pictures\040939274841.jpg"/>
          <p:cNvPicPr/>
          <p:nvPr/>
        </p:nvPicPr>
        <p:blipFill>
          <a:blip r:embed="rId7"/>
          <a:stretch/>
        </p:blipFill>
        <p:spPr>
          <a:xfrm>
            <a:off x="1692360" y="4365720"/>
            <a:ext cx="3413160" cy="186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ас\Pictures\М.jpg"/>
          <p:cNvPicPr/>
          <p:nvPr/>
        </p:nvPicPr>
        <p:blipFill>
          <a:blip r:embed="rId8"/>
          <a:stretch/>
        </p:blipFill>
        <p:spPr>
          <a:xfrm>
            <a:off x="2700360" y="2205000"/>
            <a:ext cx="2951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924120"/>
            <a:ext cx="8285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ИМЯ СУЩЕСТВИТЕЛЬНО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это часть речи, которая обозначает предмет и отвечает на вопросы Кто? или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95280" y="362160"/>
            <a:ext cx="87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Кроме предметов (ручка, мел, ножницы) существительное обозна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Живые сущест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 человек, живо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Явления природ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 заморозки, дождь, зас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Событ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 война, празд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Процесс действ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 бег, прыжок, хо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Абстрактные понят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 нежность, храб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Раст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– берёза, трав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771640" y="1125360"/>
            <a:ext cx="200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04020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00000" y="33336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уж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баб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940360" y="33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ыли у 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900000" y="1628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о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ч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а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ынок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ален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900000" y="299736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шл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те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а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раб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239840" y="4336920"/>
            <a:ext cx="236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2210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ево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ч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брате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ста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1664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 од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655360" y="2318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596840" y="23184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283760" y="155268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444120" y="155268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723400" y="282420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421164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1356480" y="414324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3804480" y="41720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468360" y="487440"/>
            <a:ext cx="8170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Не заботясь о пог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В сарафане белом ход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А в один из тёплых д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Май серёжки дарит 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Компас\Pictures\Silver_Birch_Tree.jpg"/>
          <p:cNvPicPr/>
          <p:nvPr/>
        </p:nvPicPr>
        <p:blipFill>
          <a:blip r:embed="rId1"/>
          <a:stretch/>
        </p:blipFill>
        <p:spPr>
          <a:xfrm>
            <a:off x="6443640" y="2492280"/>
            <a:ext cx="2298600" cy="4068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2556000" y="544500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ё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Компас\Pictures\post-109071-1285725875.jpg"/>
          <p:cNvPicPr/>
          <p:nvPr/>
        </p:nvPicPr>
        <p:blipFill>
          <a:blip r:embed="rId1"/>
          <a:stretch/>
        </p:blipFill>
        <p:spPr>
          <a:xfrm>
            <a:off x="4427640" y="3357720"/>
            <a:ext cx="4313160" cy="3200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468360" y="630000"/>
            <a:ext cx="820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Лиственное дерево с белой корой и небольшими сердцевидными листь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468360" y="61236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Название дерево получило по цвету коры. У древних славян существовало слово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«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е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которое означало «светлый, ясный, блестящий, белый». Именно от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«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е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и образовалось сначала слово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«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е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за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а потом слово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«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е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ёза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Вообще, берёза считается исконно русским деревом, символом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611280" y="836640"/>
            <a:ext cx="79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вощи, пил, красный, площадь, город, деревня, столица, ехать, растёт, осень, месяц, декабрь, январ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3:41:28Z</dcterms:created>
  <dc:creator>Компас</dc:creator>
  <dc:description/>
  <dc:language>en-US</dc:language>
  <cp:lastModifiedBy>Компас</cp:lastModifiedBy>
  <dcterms:modified xsi:type="dcterms:W3CDTF">2011-01-09T14:53:36Z</dcterms:modified>
  <cp:revision>9</cp:revision>
  <dc:subject/>
  <dc:title>Слайд 1</dc:title>
</cp:coreProperties>
</file>