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F27-88DA-4263-99B4-C01C4B61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56D-511B-4A61-98ED-071FAF6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6CC-7B7F-4698-B230-1DA231D5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7F2-2EB2-43F2-96FF-4A4F4EC7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46A-BFEA-4CAD-841E-73812E9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9BB-F9B7-4995-9F58-DBD5CBA6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424-6BBF-491F-A890-F6BE676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EFF-1D75-407A-868F-A7C8FCC0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B4A-1D04-46A1-8508-51859AC7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71C-7D24-4A2E-BDC4-B431AC5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576-D3AC-46B1-93E4-817B887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3FC-9A26-4C4C-8405-7B4AF93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8F63-BD67-47F8-AD86-809DC5ADF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6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8" descr="0_5d817_2668d3f2_L.jpg"/>
          <p:cNvPicPr/>
          <p:nvPr/>
        </p:nvPicPr>
        <p:blipFill>
          <a:blip r:embed="rId2"/>
          <a:stretch/>
        </p:blipFill>
        <p:spPr>
          <a:xfrm>
            <a:off x="250920" y="404640"/>
            <a:ext cx="1657080" cy="122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317520" y="2328840"/>
            <a:ext cx="8966160" cy="1609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2340000" y="537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556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344400" y="386064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Monotype Corsiva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539640" y="191628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создать одну сорбонку. Теперь копируете её столько, сколько Вам нужно. Разбираете, то есть раскладываете карточки по отдельности. На первых двух можете менять цвет, вопрос, ответ, раз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складываете карточк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740a"/>
                </a:solidFill>
                <a:latin typeface="Times New Roman"/>
                <a:ea typeface="Times New Roman"/>
              </a:rPr>
              <a:t>ТОЛЬКО НЕ МЕНЯЙТЕ НАСТРО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908000" y="333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одна сорбонка, а я сделала несколько, поменяв только цвет, вопрос, ответ, раз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Скругленный прямоугольник 2"/>
          <p:cNvGrpSpPr/>
          <p:nvPr/>
        </p:nvGrpSpPr>
        <p:grpSpPr>
          <a:xfrm>
            <a:off x="549360" y="2670120"/>
            <a:ext cx="3644640" cy="847800"/>
            <a:chOff x="549360" y="2670120"/>
            <a:chExt cx="3644640" cy="847800"/>
          </a:xfrm>
        </p:grpSpPr>
        <p:pic>
          <p:nvPicPr>
            <p:cNvPr id="10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49360" y="2670120"/>
              <a:ext cx="3644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46200" y="2744640"/>
              <a:ext cx="3459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Дел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3"/>
          <p:cNvGrpSpPr/>
          <p:nvPr/>
        </p:nvGrpSpPr>
        <p:grpSpPr>
          <a:xfrm>
            <a:off x="549360" y="2670120"/>
            <a:ext cx="3644640" cy="847800"/>
            <a:chOff x="549360" y="2670120"/>
            <a:chExt cx="3644640" cy="847800"/>
          </a:xfrm>
        </p:grpSpPr>
        <p:pic>
          <p:nvPicPr>
            <p:cNvPr id="10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49360" y="2670120"/>
              <a:ext cx="3644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46200" y="2744640"/>
              <a:ext cx="3459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Инд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"/>
          <p:cNvGrpSpPr/>
          <p:nvPr/>
        </p:nvGrpSpPr>
        <p:grpSpPr>
          <a:xfrm>
            <a:off x="549360" y="2670120"/>
            <a:ext cx="3644640" cy="847800"/>
            <a:chOff x="549360" y="2670120"/>
            <a:chExt cx="3644640" cy="847800"/>
          </a:xfrm>
        </p:grpSpPr>
        <p:pic>
          <p:nvPicPr>
            <p:cNvPr id="10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49360" y="2670120"/>
              <a:ext cx="3644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6200" y="2744640"/>
              <a:ext cx="3459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5"/>
          <p:cNvGrpSpPr/>
          <p:nvPr/>
        </p:nvGrpSpPr>
        <p:grpSpPr>
          <a:xfrm>
            <a:off x="4870440" y="2670120"/>
            <a:ext cx="3645000" cy="847800"/>
            <a:chOff x="4870440" y="2670120"/>
            <a:chExt cx="3645000" cy="847800"/>
          </a:xfrm>
        </p:grpSpPr>
        <p:pic>
          <p:nvPicPr>
            <p:cNvPr id="11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870440" y="2670120"/>
              <a:ext cx="3645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967280" y="2744640"/>
              <a:ext cx="3457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Пеки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6"/>
          <p:cNvGrpSpPr/>
          <p:nvPr/>
        </p:nvGrpSpPr>
        <p:grpSpPr>
          <a:xfrm>
            <a:off x="4870440" y="2670120"/>
            <a:ext cx="3645000" cy="847800"/>
            <a:chOff x="4870440" y="2670120"/>
            <a:chExt cx="3645000" cy="847800"/>
          </a:xfrm>
        </p:grpSpPr>
        <p:pic>
          <p:nvPicPr>
            <p:cNvPr id="114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4870440" y="2670120"/>
              <a:ext cx="3645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967280" y="2744640"/>
              <a:ext cx="3457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Кита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7"/>
          <p:cNvGrpSpPr/>
          <p:nvPr/>
        </p:nvGrpSpPr>
        <p:grpSpPr>
          <a:xfrm>
            <a:off x="4870440" y="2670120"/>
            <a:ext cx="3645000" cy="847800"/>
            <a:chOff x="4870440" y="2670120"/>
            <a:chExt cx="3645000" cy="847800"/>
          </a:xfrm>
        </p:grpSpPr>
        <p:pic>
          <p:nvPicPr>
            <p:cNvPr id="11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4870440" y="2670120"/>
              <a:ext cx="3645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67280" y="2744640"/>
              <a:ext cx="3457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8"/>
          <p:cNvGrpSpPr/>
          <p:nvPr/>
        </p:nvGrpSpPr>
        <p:grpSpPr>
          <a:xfrm>
            <a:off x="3718080" y="4254480"/>
            <a:ext cx="1403280" cy="1397160"/>
            <a:chOff x="3718080" y="4254480"/>
            <a:chExt cx="1403280" cy="1397160"/>
          </a:xfrm>
        </p:grpSpPr>
        <p:pic>
          <p:nvPicPr>
            <p:cNvPr id="120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718080" y="4254480"/>
              <a:ext cx="1403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1920" y="4354560"/>
              <a:ext cx="1158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9"/>
          <p:cNvGrpSpPr/>
          <p:nvPr/>
        </p:nvGrpSpPr>
        <p:grpSpPr>
          <a:xfrm>
            <a:off x="3565440" y="4237200"/>
            <a:ext cx="1701720" cy="1438200"/>
            <a:chOff x="3565440" y="4237200"/>
            <a:chExt cx="1701720" cy="1438200"/>
          </a:xfrm>
        </p:grpSpPr>
        <p:pic>
          <p:nvPicPr>
            <p:cNvPr id="123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3565440" y="4237200"/>
              <a:ext cx="17017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41920" y="4354560"/>
              <a:ext cx="11602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1" lang="ru-RU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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Скругленный прямоугольник 10"/>
          <p:cNvSpPr/>
          <p:nvPr/>
        </p:nvSpPr>
        <p:spPr>
          <a:xfrm>
            <a:off x="3780000" y="4292640"/>
            <a:ext cx="1284120" cy="1285920"/>
          </a:xfrm>
          <a:custGeom>
            <a:avLst/>
            <a:gdLst>
              <a:gd name="textAreaLeft" fmla="*/ 62640 w 1284120"/>
              <a:gd name="textAreaRight" fmla="*/ 1221480 w 1284120"/>
              <a:gd name="textAreaTop" fmla="*/ 62640 h 1285920"/>
              <a:gd name="textAreaBottom" fmla="*/ 1223280 h 1285920"/>
            </a:gdLst>
            <a:ahLst/>
            <a:rect l="textAreaLeft" t="textAreaTop" r="textAreaRight" b="textAreaBottom"/>
            <a:pathLst>
              <a:path w="21600" h="21630">
                <a:moveTo>
                  <a:pt x="3600" y="0"/>
                </a:moveTo>
                <a:arcTo wR="3600" hR="3600" stAng="16200000" swAng="-5400000"/>
                <a:lnTo>
                  <a:pt x="0" y="18030"/>
                </a:lnTo>
                <a:arcTo wR="3600" hR="3600" stAng="10800000" swAng="-5400000"/>
                <a:lnTo>
                  <a:pt x="18000" y="2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2968200" y="587700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740a"/>
                </a:solidFill>
                <a:latin typeface="Times New Roman"/>
                <a:ea typeface="Times New Roman"/>
              </a:rPr>
              <a:t>Желаю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468360" y="1341360"/>
            <a:ext cx="8207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т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ttp://img-fotki.yandex.ru/get/5004/valenta-mog.22/0_5d817_2668d3f2_L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хнологический приём анимированной сорб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ttp://www.uchmet.ru/library/material/144000/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 выполнить приём сорбо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ttp://didaktor.ru/kak-vypolnit-priyom-sorbonk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ствацатуров Г.О. Технологический прием «Анимированная сорбонка» –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ttp://www.it-n.ru/communities.aspx?cat_no=13748&amp;d_no=222265&amp;ext=Attachment.aspx?Id=97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916360" y="620640"/>
            <a:ext cx="366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740a"/>
                </a:solidFill>
                <a:latin typeface="Monotype Corsiva"/>
              </a:rPr>
              <a:t>Интернет-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198900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любую презентацию к уроку, учитель использует различные технологии, приёмы. Один из интереснейших приёмов – </a:t>
            </a:r>
            <a:r>
              <a:rPr b="1" lang="ru-RU" sz="3200" spc="-1" strike="noStrike">
                <a:solidFill>
                  <a:srgbClr val="f4740a"/>
                </a:solidFill>
                <a:latin typeface="Times New Roman"/>
                <a:ea typeface="Times New Roman"/>
              </a:rPr>
              <a:t>анимированная сорбо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усторонняя карточк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риём интересен, когда есть задания: вопрос –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39640" y="206064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надо решить, что используете при выполнении данной работы: картинки и карточки-таблички, на которых будет изображён правильный ответ, или карточки с вопросом и отв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213372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сорбонки предполагает наличие трёх одинакового размера карточек, накладываемых друг на друга; только одна из них выполнена с использованием тригг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2"/>
          <p:cNvGrpSpPr/>
          <p:nvPr/>
        </p:nvGrpSpPr>
        <p:grpSpPr>
          <a:xfrm>
            <a:off x="4584600" y="4475160"/>
            <a:ext cx="3645000" cy="839880"/>
            <a:chOff x="4584600" y="4475160"/>
            <a:chExt cx="3645000" cy="839880"/>
          </a:xfrm>
        </p:grpSpPr>
        <p:pic>
          <p:nvPicPr>
            <p:cNvPr id="5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4584600" y="4475160"/>
              <a:ext cx="364500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80000" y="4545000"/>
              <a:ext cx="3457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Дел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Скругленный прямоугольник 3"/>
          <p:cNvGrpSpPr/>
          <p:nvPr/>
        </p:nvGrpSpPr>
        <p:grpSpPr>
          <a:xfrm>
            <a:off x="695160" y="4475160"/>
            <a:ext cx="3645000" cy="839880"/>
            <a:chOff x="695160" y="4475160"/>
            <a:chExt cx="3645000" cy="83988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95160" y="4475160"/>
              <a:ext cx="364500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90560" y="4545000"/>
              <a:ext cx="3457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Инд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4"/>
          <p:cNvGrpSpPr/>
          <p:nvPr/>
        </p:nvGrpSpPr>
        <p:grpSpPr>
          <a:xfrm>
            <a:off x="2925720" y="5614920"/>
            <a:ext cx="3646440" cy="852480"/>
            <a:chOff x="2925720" y="5614920"/>
            <a:chExt cx="3646440" cy="852480"/>
          </a:xfrm>
        </p:grpSpPr>
        <p:pic>
          <p:nvPicPr>
            <p:cNvPr id="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925720" y="5614920"/>
              <a:ext cx="36464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022560" y="5695920"/>
              <a:ext cx="34592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ИГГ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1717200"/>
            <a:ext cx="81360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аиваем два первых объекта на эффект анимации“Вращение” как на Вход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на Выходе. Причем сначала “Выход”, затем “Вход”. Начало анимации на выходе – по щелчку, на входе – “с предыдущи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2394600" y="-884299320"/>
            <a:ext cx="27525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Скругленный прямоугольник 3"/>
          <p:cNvGrpSpPr/>
          <p:nvPr/>
        </p:nvGrpSpPr>
        <p:grpSpPr>
          <a:xfrm>
            <a:off x="4657680" y="4400640"/>
            <a:ext cx="3638520" cy="841320"/>
            <a:chOff x="4657680" y="4400640"/>
            <a:chExt cx="3638520" cy="841320"/>
          </a:xfrm>
        </p:grpSpPr>
        <p:pic>
          <p:nvPicPr>
            <p:cNvPr id="6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657680" y="4400640"/>
              <a:ext cx="3638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51280" y="4471920"/>
              <a:ext cx="3457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Дел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Скругленный прямоугольник 4"/>
          <p:cNvGrpSpPr/>
          <p:nvPr/>
        </p:nvGrpSpPr>
        <p:grpSpPr>
          <a:xfrm>
            <a:off x="768240" y="4400640"/>
            <a:ext cx="3645000" cy="841320"/>
            <a:chOff x="768240" y="4400640"/>
            <a:chExt cx="3645000" cy="841320"/>
          </a:xfrm>
        </p:grpSpPr>
        <p:pic>
          <p:nvPicPr>
            <p:cNvPr id="6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68240" y="4400640"/>
              <a:ext cx="3645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61840" y="4471920"/>
              <a:ext cx="34592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Инд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Рисунок 10" descr="1ce80b85.png"/>
          <p:cNvPicPr/>
          <p:nvPr/>
        </p:nvPicPr>
        <p:blipFill>
          <a:blip r:embed="rId3"/>
          <a:stretch/>
        </p:blipFill>
        <p:spPr>
          <a:xfrm>
            <a:off x="3564000" y="5589720"/>
            <a:ext cx="1904760" cy="904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1658160" y="5300640"/>
            <a:ext cx="16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- 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- в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762520" y="5300640"/>
            <a:ext cx="15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- в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-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Скругленный прямоугольник 1"/>
          <p:cNvGrpSpPr/>
          <p:nvPr/>
        </p:nvGrpSpPr>
        <p:grpSpPr>
          <a:xfrm>
            <a:off x="2786040" y="5614920"/>
            <a:ext cx="3786120" cy="852480"/>
            <a:chOff x="2786040" y="5614920"/>
            <a:chExt cx="3786120" cy="852480"/>
          </a:xfrm>
        </p:grpSpPr>
        <p:pic>
          <p:nvPicPr>
            <p:cNvPr id="7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786040" y="5614920"/>
              <a:ext cx="37861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79640" y="5695920"/>
              <a:ext cx="36021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4740a"/>
                  </a:solidFill>
                  <a:latin typeface="Times New Roman"/>
                  <a:ea typeface="Times New Roman"/>
                </a:rPr>
                <a:t>ТРИГГ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Прямоугольник 2"/>
          <p:cNvSpPr/>
          <p:nvPr/>
        </p:nvSpPr>
        <p:spPr>
          <a:xfrm>
            <a:off x="468360" y="1773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объект –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ая кноп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а и станет у нас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г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Щелкая по кнопке, мы неоднократно будем запускать вращение объектов. Обратите внимание, что эта кнопка –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ра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ё во время демонстрации не видно. Она находится на переднем плане и задаёт движение другим объек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419640" y="549360"/>
            <a:ext cx="547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делайте кнопку прозрачной команд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“нет заливки”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таком случае триггер будет работать только по контуру. В формате рисунка устанавливае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“движок”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крайне левое положение. Тогда объект становится прозрачным, и кнопка будет срабатывать по всей поверх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00ad8172.jpg"/>
          <p:cNvPicPr/>
          <p:nvPr/>
        </p:nvPicPr>
        <p:blipFill>
          <a:blip r:embed="rId1"/>
          <a:stretch/>
        </p:blipFill>
        <p:spPr>
          <a:xfrm>
            <a:off x="468360" y="3213000"/>
            <a:ext cx="3166920" cy="26542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верх 3"/>
          <p:cNvSpPr/>
          <p:nvPr/>
        </p:nvSpPr>
        <p:spPr>
          <a:xfrm>
            <a:off x="2484360" y="4581360"/>
            <a:ext cx="216000" cy="79236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1"/>
          <p:cNvSpPr/>
          <p:nvPr/>
        </p:nvSpPr>
        <p:spPr>
          <a:xfrm>
            <a:off x="3132000" y="2852640"/>
            <a:ext cx="360072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4000" y="1557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аиваем анимацию первого и второго объекта щелчком командной кнопки (тригг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адываем объекты друг на друга – второй, первый, сверху триггер (обязательно на передний п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Скругленный прямоугольник 4"/>
          <p:cNvGrpSpPr/>
          <p:nvPr/>
        </p:nvGrpSpPr>
        <p:grpSpPr>
          <a:xfrm>
            <a:off x="4511520" y="4687920"/>
            <a:ext cx="3645000" cy="841320"/>
            <a:chOff x="4511520" y="4687920"/>
            <a:chExt cx="3645000" cy="84132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4511520" y="4687920"/>
              <a:ext cx="3645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06920" y="4761000"/>
              <a:ext cx="34574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Дел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622440" y="4687920"/>
            <a:ext cx="3644640" cy="841320"/>
            <a:chOff x="622440" y="4687920"/>
            <a:chExt cx="3644640" cy="84132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22440" y="4687920"/>
              <a:ext cx="3644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19280" y="4761000"/>
              <a:ext cx="34574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Инд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6"/>
          <p:cNvGrpSpPr/>
          <p:nvPr/>
        </p:nvGrpSpPr>
        <p:grpSpPr>
          <a:xfrm>
            <a:off x="2852640" y="5827680"/>
            <a:ext cx="3645000" cy="854280"/>
            <a:chOff x="2852640" y="5827680"/>
            <a:chExt cx="3645000" cy="854280"/>
          </a:xfrm>
        </p:grpSpPr>
        <p:pic>
          <p:nvPicPr>
            <p:cNvPr id="8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852640" y="5827680"/>
              <a:ext cx="3645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951280" y="5911920"/>
              <a:ext cx="34574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ИГГ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Скругленный прямоугольник 1"/>
          <p:cNvGrpSpPr/>
          <p:nvPr/>
        </p:nvGrpSpPr>
        <p:grpSpPr>
          <a:xfrm>
            <a:off x="2852640" y="3249720"/>
            <a:ext cx="3645000" cy="841320"/>
            <a:chOff x="2852640" y="3249720"/>
            <a:chExt cx="3645000" cy="841320"/>
          </a:xfrm>
        </p:grpSpPr>
        <p:pic>
          <p:nvPicPr>
            <p:cNvPr id="9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52640" y="3249720"/>
              <a:ext cx="3645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51280" y="3319560"/>
              <a:ext cx="34574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Дел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2"/>
          <p:cNvGrpSpPr/>
          <p:nvPr/>
        </p:nvGrpSpPr>
        <p:grpSpPr>
          <a:xfrm>
            <a:off x="2852640" y="3249720"/>
            <a:ext cx="3645000" cy="841320"/>
            <a:chOff x="2852640" y="3249720"/>
            <a:chExt cx="3645000" cy="841320"/>
          </a:xfrm>
        </p:grpSpPr>
        <p:pic>
          <p:nvPicPr>
            <p:cNvPr id="9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852640" y="3249720"/>
              <a:ext cx="3645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51280" y="3319560"/>
              <a:ext cx="34574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Инд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3"/>
          <p:cNvGrpSpPr/>
          <p:nvPr/>
        </p:nvGrpSpPr>
        <p:grpSpPr>
          <a:xfrm>
            <a:off x="2852640" y="3249720"/>
            <a:ext cx="3645000" cy="841320"/>
            <a:chOff x="2852640" y="3249720"/>
            <a:chExt cx="3645000" cy="841320"/>
          </a:xfrm>
        </p:grpSpPr>
        <p:pic>
          <p:nvPicPr>
            <p:cNvPr id="9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52640" y="3249720"/>
              <a:ext cx="3645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951280" y="3319560"/>
              <a:ext cx="34574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7"/>
          <p:cNvSpPr/>
          <p:nvPr/>
        </p:nvSpPr>
        <p:spPr>
          <a:xfrm>
            <a:off x="2268000" y="1989000"/>
            <a:ext cx="48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740a"/>
                </a:solidFill>
                <a:latin typeface="Times New Roman"/>
                <a:ea typeface="Times New Roman"/>
              </a:rPr>
              <a:t>СОРБОНКА ГО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5:44:21Z</dcterms:created>
  <dc:creator>Компас</dc:creator>
  <dc:description/>
  <dc:language>en-US</dc:language>
  <cp:lastModifiedBy>Компас</cp:lastModifiedBy>
  <dcterms:modified xsi:type="dcterms:W3CDTF">2013-08-17T09:00:36Z</dcterms:modified>
  <cp:revision>16</cp:revision>
  <dc:subject/>
  <dc:title>Слайд 1</dc:title>
</cp:coreProperties>
</file>