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793-860D-4F42-89C9-AE492519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F18-221D-47C9-B9B7-CCF01BF5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548-5206-4C1E-84CD-2E7D4901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186-FC3F-46C9-854D-163B6FA4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A41-61D7-4A1F-8F6A-F6C95DD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829-7432-4AE5-A9C5-08645B7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FBE-C93B-4CDF-B357-288805C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CB0-4E42-4520-ADA5-C5BC1901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9AF-8D4B-4927-B071-C92BC3AD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7B1-7681-4D03-B11A-BE54D74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C56-52BE-4825-872F-1B9152A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52A-22DB-4F29-9384-22F8179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38B-C74B-4BE9-B2F2-94179BCE2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21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33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45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6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108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120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132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32:31Z</dcterms:created>
  <dc:creator>Компас</dc:creator>
  <dc:description/>
  <dc:language>en-US</dc:language>
  <cp:lastModifiedBy>Компас</cp:lastModifiedBy>
  <dcterms:modified xsi:type="dcterms:W3CDTF">2012-10-18T13:27:31Z</dcterms:modified>
  <cp:revision>3</cp:revision>
  <dc:subject/>
  <dc:title>Слайд 1</dc:title>
</cp:coreProperties>
</file>